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892-206F-4A40-B178-45C93B8F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622-ACA9-42D6-B8DA-53CEE14C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AEA-14FE-45E3-86F9-424ADD7E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DCB-7135-46F7-BA5F-19514C37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4C8-B5E5-4391-AF56-BCC4A6EC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A10-C776-4254-A925-A8F7D496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DCC-6D70-481B-8761-BFEB86FE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5B9-925D-40B4-8498-050DE614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316-1051-4C6A-9927-46EAD5C0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0D8-0E2E-4FB7-ACD6-20BF47AE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3FB1-94DA-482F-A2D5-587062A9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861-0B15-4C08-AB8B-2054B653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7CE0-63CB-49F9-87DC-0D15A667F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world belongs to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earth and all its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Psalm 2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ve and peace come toge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ustice and peace join h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85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w good and how lovely 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live together in un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133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f the Lord’s disciples keep si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se stones would shout alou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uke 19: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open our 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our mouths shall procla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51: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17:11Z</dcterms:created>
  <dc:creator>Anon Anon</dc:creator>
  <dc:description/>
  <dc:language>en-US</dc:language>
  <cp:lastModifiedBy>Anon Anon</cp:lastModifiedBy>
  <dcterms:modified xsi:type="dcterms:W3CDTF">2005-08-09T05:04:47Z</dcterms:modified>
  <cp:revision>6</cp:revision>
  <dc:subject/>
  <dc:title>PowerPoint Presentation</dc:title>
</cp:coreProperties>
</file>